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2F6-F989-4BEA-8669-18F7A81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E6D-4629-4739-9E0D-D3FAD4F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8EA-92E7-419C-A1D7-C4A0561B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353-90F7-4172-BF21-F0A045AC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717-21BA-41F4-8493-BEF2019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BF1-1EA2-4762-AFEF-1E1F778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AAD-BF78-480C-B531-2BD9DA2E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408-4CBD-49C0-8AA6-F2601CEE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829-6E17-46FE-B92C-AC76026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F7C-54C1-4768-90FC-BA41BB0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02C-D354-437B-8469-AD740F1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909-86C8-410B-BE04-A8770260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FE09-C2C5-4BAE-AD06-E4303F5E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228600"/>
            <a:ext cx="7010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657600" y="3048120"/>
            <a:ext cx="206064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4191120"/>
            <a:ext cx="5943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200320" y="1279440"/>
            <a:ext cx="5663880" cy="1654920"/>
            <a:chOff x="2200320" y="1279440"/>
            <a:chExt cx="5663880" cy="1654920"/>
          </a:xfrm>
        </p:grpSpPr>
        <p:sp>
          <p:nvSpPr>
            <p:cNvPr id="107" name="Text Box 3"/>
            <p:cNvSpPr/>
            <p:nvPr/>
          </p:nvSpPr>
          <p:spPr>
            <a:xfrm>
              <a:off x="2200320" y="1279440"/>
              <a:ext cx="566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 -2≤x≤2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"/>
            <p:cNvSpPr/>
            <p:nvPr/>
          </p:nvSpPr>
          <p:spPr>
            <a:xfrm>
              <a:off x="2205720" y="2170080"/>
              <a:ext cx="50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 -2≤y≤2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6"/>
          <p:cNvSpPr/>
          <p:nvPr/>
        </p:nvSpPr>
        <p:spPr>
          <a:xfrm>
            <a:off x="380880" y="4539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1297080" y="333360"/>
          <a:ext cx="2967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333360"/>
                    <a:ext cx="2967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5"/>
          <p:cNvGrpSpPr/>
          <p:nvPr/>
        </p:nvGrpSpPr>
        <p:grpSpPr>
          <a:xfrm>
            <a:off x="380880" y="3476520"/>
            <a:ext cx="5722920" cy="799200"/>
            <a:chOff x="380880" y="3476520"/>
            <a:chExt cx="5722920" cy="799200"/>
          </a:xfrm>
        </p:grpSpPr>
        <p:sp>
          <p:nvSpPr>
            <p:cNvPr id="113" name="Text Box 9"/>
            <p:cNvSpPr/>
            <p:nvPr/>
          </p:nvSpPr>
          <p:spPr>
            <a:xfrm>
              <a:off x="380880" y="35114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Object 10"/>
            <p:cNvGraphicFramePr/>
            <p:nvPr/>
          </p:nvGraphicFramePr>
          <p:xfrm>
            <a:off x="1279440" y="3476520"/>
            <a:ext cx="4824360" cy="7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79440" y="3476520"/>
                      <a:ext cx="482436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6" name="Group 11"/>
          <p:cNvGrpSpPr/>
          <p:nvPr/>
        </p:nvGrpSpPr>
        <p:grpSpPr>
          <a:xfrm>
            <a:off x="2200320" y="4543560"/>
            <a:ext cx="5343120" cy="1559520"/>
            <a:chOff x="2200320" y="4543560"/>
            <a:chExt cx="5343120" cy="1559520"/>
          </a:xfrm>
        </p:grpSpPr>
        <p:sp>
          <p:nvSpPr>
            <p:cNvPr id="117" name="Text Box 12"/>
            <p:cNvSpPr/>
            <p:nvPr/>
          </p:nvSpPr>
          <p:spPr>
            <a:xfrm>
              <a:off x="2200320" y="4543560"/>
              <a:ext cx="5343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2203920" y="5338800"/>
              <a:ext cx="50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4910040" y="322200"/>
            <a:ext cx="39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 This is NOT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8080" y="53352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a set of ordered pairs, (x, y),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the set of all x-coordin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342900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a set of ordered pairs, (x, y),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the set of all y-coordin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228600"/>
            <a:ext cx="82296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limited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set of ordered pairs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066680" y="2971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{(2,3),(-1,0),(2,-5),(0,-3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533520" y="4419720"/>
            <a:ext cx="4495680" cy="840240"/>
            <a:chOff x="533520" y="4419720"/>
            <a:chExt cx="4495680" cy="840240"/>
          </a:xfrm>
        </p:grpSpPr>
        <p:sp>
          <p:nvSpPr>
            <p:cNvPr id="49" name="Text Box 4"/>
            <p:cNvSpPr/>
            <p:nvPr/>
          </p:nvSpPr>
          <p:spPr>
            <a:xfrm>
              <a:off x="533520" y="44956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Domain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895480" y="4419720"/>
              <a:ext cx="213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2,-1,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533520" y="5715000"/>
            <a:ext cx="4800600" cy="764280"/>
            <a:chOff x="533520" y="5715000"/>
            <a:chExt cx="4800600" cy="764280"/>
          </a:xfrm>
        </p:grpSpPr>
        <p:sp>
          <p:nvSpPr>
            <p:cNvPr id="52" name="Text Box 6"/>
            <p:cNvSpPr/>
            <p:nvPr/>
          </p:nvSpPr>
          <p:spPr>
            <a:xfrm>
              <a:off x="533520" y="57150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ange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2590920" y="571500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3,0,-5,-3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8"/>
          <p:cNvSpPr/>
          <p:nvPr/>
        </p:nvSpPr>
        <p:spPr>
          <a:xfrm>
            <a:off x="5638680" y="419112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a number occurs more than once, you do not need to list it more than on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28600" y="2286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n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nfinite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, described by a grap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63600" y="2765520"/>
            <a:ext cx="3087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graph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10644" t="16921" r="21612" b="0"/>
          <a:stretch/>
        </p:blipFill>
        <p:spPr>
          <a:xfrm>
            <a:off x="3571920" y="2168640"/>
            <a:ext cx="51148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5"/>
          <p:cNvGrpSpPr/>
          <p:nvPr/>
        </p:nvGrpSpPr>
        <p:grpSpPr>
          <a:xfrm>
            <a:off x="2362320" y="285480"/>
            <a:ext cx="4724280" cy="3833640"/>
            <a:chOff x="2362320" y="285480"/>
            <a:chExt cx="4724280" cy="3833640"/>
          </a:xfrm>
        </p:grpSpPr>
        <p:pic>
          <p:nvPicPr>
            <p:cNvPr id="59" name="Picture 9" descr=""/>
            <p:cNvPicPr/>
            <p:nvPr/>
          </p:nvPicPr>
          <p:blipFill>
            <a:blip r:embed="rId1"/>
            <a:srcRect l="10644" t="16921" r="21612" b="0"/>
            <a:stretch/>
          </p:blipFill>
          <p:spPr>
            <a:xfrm>
              <a:off x="2438280" y="457200"/>
              <a:ext cx="4648320" cy="35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12"/>
            <p:cNvSpPr/>
            <p:nvPr/>
          </p:nvSpPr>
          <p:spPr>
            <a:xfrm>
              <a:off x="2362320" y="34290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V="1">
              <a:off x="5276880" y="285480"/>
              <a:ext cx="0" cy="38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533520" y="3429000"/>
            <a:ext cx="8229600" cy="1755000"/>
            <a:chOff x="533520" y="3429000"/>
            <a:chExt cx="8229600" cy="1755000"/>
          </a:xfrm>
        </p:grpSpPr>
        <p:sp>
          <p:nvSpPr>
            <p:cNvPr id="63" name="Text Box 2"/>
            <p:cNvSpPr/>
            <p:nvPr/>
          </p:nvSpPr>
          <p:spPr>
            <a:xfrm>
              <a:off x="533520" y="426708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00"/>
                  </a:solidFill>
                  <a:latin typeface="Times New Roman"/>
                </a:rPr>
                <a:t>Domain:{all real numbers}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2819520" y="3429000"/>
              <a:ext cx="37335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552600" y="456840"/>
            <a:ext cx="8229600" cy="5714640"/>
            <a:chOff x="552600" y="456840"/>
            <a:chExt cx="8229600" cy="5714640"/>
          </a:xfrm>
        </p:grpSpPr>
        <p:sp>
          <p:nvSpPr>
            <p:cNvPr id="66" name="Line 11"/>
            <p:cNvSpPr/>
            <p:nvPr/>
          </p:nvSpPr>
          <p:spPr>
            <a:xfrm flipV="1">
              <a:off x="4724280" y="456840"/>
              <a:ext cx="0" cy="297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52600" y="525456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Times New Roman"/>
                </a:rPr>
                <a:t>Range:{y:y≥0}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2286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n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nfinite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, described by an algebraic express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7280" y="2481120"/>
            <a:ext cx="81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function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308240" y="3726000"/>
            <a:ext cx="5806440" cy="790920"/>
            <a:chOff x="1308240" y="3726000"/>
            <a:chExt cx="5806440" cy="790920"/>
          </a:xfrm>
        </p:grpSpPr>
        <p:sp>
          <p:nvSpPr>
            <p:cNvPr id="71" name="Text Box 4"/>
            <p:cNvSpPr/>
            <p:nvPr/>
          </p:nvSpPr>
          <p:spPr>
            <a:xfrm>
              <a:off x="1308240" y="3752640"/>
              <a:ext cx="240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Object 5"/>
            <p:cNvGraphicFramePr/>
            <p:nvPr/>
          </p:nvGraphicFramePr>
          <p:xfrm>
            <a:off x="3822480" y="3726000"/>
            <a:ext cx="3292200" cy="75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22480" y="3726000"/>
                      <a:ext cx="3292200" cy="75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" name="Group 11"/>
          <p:cNvGrpSpPr/>
          <p:nvPr/>
        </p:nvGrpSpPr>
        <p:grpSpPr>
          <a:xfrm>
            <a:off x="1943280" y="4762440"/>
            <a:ext cx="5481360" cy="840600"/>
            <a:chOff x="1943280" y="4762440"/>
            <a:chExt cx="5481360" cy="840600"/>
          </a:xfrm>
        </p:grpSpPr>
        <p:sp>
          <p:nvSpPr>
            <p:cNvPr id="75" name="Text Box 7"/>
            <p:cNvSpPr/>
            <p:nvPr/>
          </p:nvSpPr>
          <p:spPr>
            <a:xfrm>
              <a:off x="1943280" y="483876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Domain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4305240" y="4762440"/>
              <a:ext cx="311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x: x≥5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12"/>
          <p:cNvGrpSpPr/>
          <p:nvPr/>
        </p:nvGrpSpPr>
        <p:grpSpPr>
          <a:xfrm>
            <a:off x="1943280" y="5657760"/>
            <a:ext cx="4800600" cy="764280"/>
            <a:chOff x="1943280" y="5657760"/>
            <a:chExt cx="4800600" cy="764280"/>
          </a:xfrm>
        </p:grpSpPr>
        <p:sp>
          <p:nvSpPr>
            <p:cNvPr id="78" name="Text Box 9"/>
            <p:cNvSpPr/>
            <p:nvPr/>
          </p:nvSpPr>
          <p:spPr>
            <a:xfrm>
              <a:off x="1943280" y="565776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ange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4000680" y="565776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y: y≥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01720" y="628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ctice:  Find the domain and range of the following sets of ordered pai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2120" y="311616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{(3,7),(-3,7),(7,-2),(-8,-5),(0,-1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600200" y="44956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:{3,-3,7,-8,0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676520" y="56386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:{7,-2,-5,-1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40403" t="17699" r="20853" b="18077"/>
          <a:stretch/>
        </p:blipFill>
        <p:spPr>
          <a:xfrm>
            <a:off x="1349280" y="380880"/>
            <a:ext cx="4494240" cy="4684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80880" y="378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360360" y="5583240"/>
            <a:ext cx="4000680" cy="764280"/>
            <a:chOff x="360360" y="5583240"/>
            <a:chExt cx="4000680" cy="764280"/>
          </a:xfrm>
        </p:grpSpPr>
        <p:sp>
          <p:nvSpPr>
            <p:cNvPr id="87" name="Text Box 4"/>
            <p:cNvSpPr/>
            <p:nvPr/>
          </p:nvSpPr>
          <p:spPr>
            <a:xfrm>
              <a:off x="360360" y="5583240"/>
              <a:ext cx="342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Object 5"/>
            <p:cNvGraphicFramePr/>
            <p:nvPr/>
          </p:nvGraphicFramePr>
          <p:xfrm>
            <a:off x="3637080" y="5735880"/>
            <a:ext cx="723960" cy="48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37080" y="5735880"/>
                      <a:ext cx="7239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6"/>
            <p:cNvSpPr/>
            <p:nvPr/>
          </p:nvSpPr>
          <p:spPr>
            <a:xfrm>
              <a:off x="4170240" y="5583240"/>
              <a:ext cx="184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8"/>
          <p:cNvSpPr/>
          <p:nvPr/>
        </p:nvSpPr>
        <p:spPr>
          <a:xfrm>
            <a:off x="4667400" y="558324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:{all reals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0"/>
          <p:cNvGrpSpPr/>
          <p:nvPr/>
        </p:nvGrpSpPr>
        <p:grpSpPr>
          <a:xfrm>
            <a:off x="2200320" y="1279440"/>
            <a:ext cx="4680000" cy="1654920"/>
            <a:chOff x="2200320" y="1279440"/>
            <a:chExt cx="4680000" cy="1654920"/>
          </a:xfrm>
        </p:grpSpPr>
        <p:sp>
          <p:nvSpPr>
            <p:cNvPr id="93" name="Text Box 5"/>
            <p:cNvSpPr/>
            <p:nvPr/>
          </p:nvSpPr>
          <p:spPr>
            <a:xfrm>
              <a:off x="2200320" y="1279440"/>
              <a:ext cx="468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2205000" y="2170080"/>
              <a:ext cx="4191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y≥-4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380880" y="333360"/>
            <a:ext cx="4497480" cy="885240"/>
            <a:chOff x="380880" y="333360"/>
            <a:chExt cx="4497480" cy="885240"/>
          </a:xfrm>
        </p:grpSpPr>
        <p:sp>
          <p:nvSpPr>
            <p:cNvPr id="96" name="Text Box 3"/>
            <p:cNvSpPr/>
            <p:nvPr/>
          </p:nvSpPr>
          <p:spPr>
            <a:xfrm>
              <a:off x="380880" y="4543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Object 9"/>
            <p:cNvGraphicFramePr/>
            <p:nvPr/>
          </p:nvGraphicFramePr>
          <p:xfrm>
            <a:off x="1063800" y="333360"/>
            <a:ext cx="3814560" cy="84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3800" y="333360"/>
                      <a:ext cx="381456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Group 21"/>
          <p:cNvGrpSpPr/>
          <p:nvPr/>
        </p:nvGrpSpPr>
        <p:grpSpPr>
          <a:xfrm>
            <a:off x="380880" y="3089160"/>
            <a:ext cx="3127320" cy="1484280"/>
            <a:chOff x="380880" y="3089160"/>
            <a:chExt cx="3127320" cy="1484280"/>
          </a:xfrm>
        </p:grpSpPr>
        <p:sp>
          <p:nvSpPr>
            <p:cNvPr id="100" name="Text Box 10"/>
            <p:cNvSpPr/>
            <p:nvPr/>
          </p:nvSpPr>
          <p:spPr>
            <a:xfrm>
              <a:off x="380880" y="35114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Object 15"/>
            <p:cNvGraphicFramePr/>
            <p:nvPr/>
          </p:nvGraphicFramePr>
          <p:xfrm>
            <a:off x="1069920" y="3089160"/>
            <a:ext cx="2438280" cy="14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9920" y="3089160"/>
                      <a:ext cx="2438280" cy="14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" name="Group 22"/>
          <p:cNvGrpSpPr/>
          <p:nvPr/>
        </p:nvGrpSpPr>
        <p:grpSpPr>
          <a:xfrm>
            <a:off x="2200320" y="4543560"/>
            <a:ext cx="4452840" cy="1559520"/>
            <a:chOff x="2200320" y="4543560"/>
            <a:chExt cx="4452840" cy="1559520"/>
          </a:xfrm>
        </p:grpSpPr>
        <p:sp>
          <p:nvSpPr>
            <p:cNvPr id="104" name="Text Box 12"/>
            <p:cNvSpPr/>
            <p:nvPr/>
          </p:nvSpPr>
          <p:spPr>
            <a:xfrm>
              <a:off x="2200320" y="4543560"/>
              <a:ext cx="4452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x≠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203560" y="5338800"/>
              <a:ext cx="419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y≠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57:41Z</dcterms:created>
  <dc:creator>HCPS</dc:creator>
  <dc:description/>
  <dc:language>en-US</dc:language>
  <cp:lastModifiedBy>test</cp:lastModifiedBy>
  <dcterms:modified xsi:type="dcterms:W3CDTF">2014-10-22T18:20:17Z</dcterms:modified>
  <cp:revision>11</cp:revision>
  <dc:subject/>
  <dc:title>No Slide Title</dc:title>
</cp:coreProperties>
</file>